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A021-3AB5-47A9-AC88-2CFA0F7E7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F902-B99E-4644-B5AE-8D407F82D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92F9-5C8C-4174-9333-0FE9E5BED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D082-9127-414B-BD56-03902F880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1F2B-02C0-4F03-86E3-3810F3FEA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2F02-C42C-4AA9-82E0-5FD03A64C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407A-5D2C-43C4-9375-D8D0478D0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9B32-2794-4762-B440-4A3AF6D61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C64D-C613-4C8F-A4AA-11748FBA5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922E-2432-481B-8C7D-196B28A6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0759-ACA4-474E-8812-F8BAA7C1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5B10-879A-495A-B153-EC503D77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16D97-E8EC-4FAD-B3AE-38603EA056A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愿你的国降临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愿你的国降临\愿你的国降临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愿你的国降临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愿你的国降临\愿你的国降临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12:46Z</dcterms:modified>
  <cp:revision>4</cp:revision>
  <dc:subject/>
  <dc:title>幻灯片 1</dc:title>
</cp:coreProperties>
</file>