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E58F-3A1C-45CB-89E1-16D2B80ED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F438-A126-4E4F-B85D-8ADCF529E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7736-0442-4D08-A97D-4560002D4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F51E-9F2A-4104-8F65-34199425C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589A-FDA4-43B3-87B1-9CDF96BC2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2C23-38E2-44BE-98D5-C53A38380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7D3D-1CA8-4AC3-B72A-F6EC674F6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C4AB-5D46-4E84-AC0A-AA6894AC5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83C5-A1B3-4DC2-81F4-C3E6A2728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5EBA-8C85-477C-A4D0-5AB8658E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C3F5-E100-4C14-BD44-546D152E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BAB4-3289-4655-AE9A-675CDE78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BB3EA-205D-436E-936E-CBD787C79FA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让小小灯火四处燃起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我愿意\让小小灯火四处燃起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让小小灯火四处燃起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我愿意\让小小灯火四处燃起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让小小灯火四处燃起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我愿意\让小小灯火四处燃起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让小小灯火四处燃起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E:\music\诗歌\PPT\2\我愿意\让小小灯火四处燃起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4:47:52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