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BDC7-5096-4A20-82F7-EDBBCE33E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FE2F-0828-41E0-ABBD-9D83C8B5E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951D-2141-4C4D-BC57-09DB268AB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22CA-D8C7-4919-84DE-8EFCD3B28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m_thankyo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_thankyou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_thankyou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45Z</dcterms:modified>
  <cp:revision>64</cp:revision>
  <dc:subject/>
  <dc:title>謝謝祢, 耶穌</dc:title>
</cp:coreProperties>
</file>