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0BF-D918-49A7-BC0A-86364C65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ECC-DB2A-4E02-8CD3-EB6A91CE4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9A2-671B-4C1A-BB53-C2759F98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DF21-1113-467A-9E2B-BDD30386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3EF-4DAF-474B-86C6-1E8978C8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m_thank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8Z</dcterms:modified>
  <cp:revision>65</cp:revision>
  <dc:subject/>
  <dc:title>謝謝祢, 耶穌 Thank You, Jesus</dc:title>
</cp:coreProperties>
</file>