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FFBB-BC48-4444-AF4B-BDE9A981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0AE3-A23E-4CA7-9B57-D7CA1ED4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ADF8-CC6F-442B-A0A0-6E5193D6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1F25-A826-417E-919F-77D4CD06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5883-2CB4-4E40-9BE1-9B92D6FA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518C-5C08-401C-A2D1-6EFE6A56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8ADD-4337-4B40-818C-372BF7EB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CF7-66A6-4BAC-8D04-0884AC3B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A58-162E-4DDA-A6B1-0C820494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951A-3007-4FDB-A629-661BEC49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A34A-39D6-4126-8DA8-7215CF58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8933-34FE-4C1A-B5E3-66514577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D827-EA14-45C8-9671-6855FC0C55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谢谢你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谢谢你，耶稣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谢谢你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谢谢你，耶稣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谢谢你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谢谢你，耶稣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谢谢你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谢谢你，耶稣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4:54:16Z</dcterms:modified>
  <cp:revision>4</cp:revision>
  <dc:subject/>
  <dc:title>幻灯片 1</dc:title>
</cp:coreProperties>
</file>