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368-8145-4680-8DB0-F9032028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C8D-3452-4857-ABB8-D7D17734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7BD-9448-4B80-B19F-32F46BDD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75E-2D3F-4FD2-808C-9C2F5CE7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EC0-02EA-47FC-A9EC-09CCEEED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385-7DAB-41FE-9FD2-B4724642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E0D-811F-4BD4-8EA0-A8317A7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5AF-54F0-479D-9F34-A4341EC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CCD-048B-45BF-A708-C2DB10B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75F-DB15-4D17-A7B6-05F467F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18E-B923-490D-BA35-28E1D62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0F5-3B74-4FD2-80BA-B503B7B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3E3-67D6-4806-BBD3-D4141A8CA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6:49Z</dcterms:modified>
  <cp:revision>4</cp:revision>
  <dc:subject/>
  <dc:title>幻灯片 1</dc:title>
</cp:coreProperties>
</file>