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84CC-81A0-4D99-AC5F-6D249A7FD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BF02-1658-44CF-AB04-79198C1A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B31A-FEEA-4515-8D1B-DCE582C10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98EA-97DF-484F-A1CA-D7E1E8752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F1E1-B14E-49FC-A586-C3A380A1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03E1-D8B1-497E-88B4-DD84BDBD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426E-1065-483E-B5A4-8F266EB2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AB46-9332-4A01-A6AB-225B033D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22E0-4547-47EC-9603-9AB86CB8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8EFB-8BC7-4CB0-B099-3D4B4537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C65B-BF5A-4E43-8E1D-81871A69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E4BA-67F6-4DCB-9390-0EFA349E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4298-CCCD-4F0B-8D23-1F2072C0E59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诗篇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3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篇（台语）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愿你的国降临\诗篇23篇（台语）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诗篇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3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篇（台语）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愿你的国降临\诗篇23篇（台语）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诗篇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3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篇（台语）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愿你的国降临\诗篇23篇（台语）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25:42Z</dcterms:modified>
  <cp:revision>5</cp:revision>
  <dc:subject/>
  <dc:title>幻灯片 1</dc:title>
</cp:coreProperties>
</file>