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CD079-9C37-463F-952A-42B7A55E3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BDB40-6DDC-4D35-97C6-5843EDA4A6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B24E4-0183-4D86-AE72-DA6C5790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3F52E-26CE-4C3F-BD9F-0C7B55CC6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頁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20A7C-004A-46EF-8B6D-CFF6CB776F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443D-F0CE-42E6-A0E5-33D386965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C26C-8518-49E4-957C-AA8EEC42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023CB-0656-4CEC-A6D0-F2E659775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BA55-3565-4122-AE62-DFE644F26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D1F-1A8B-4398-B662-D94FB087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AB93-83C3-46AB-8680-6A520CD15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93E4-6553-4DA8-A30B-BB0D87AD0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EE9C-BF46-4971-93CC-8E339B00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BBCC-58EF-4DF0-8BA3-9D2698CA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8701-6640-40CE-8C94-3CE516248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6F802-D7EE-4819-8D05-926FA5EB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81E2D-05D5-45E4-A364-3D394033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60BC-D093-44BB-8EED-FA16DE9F98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C:\Documents and Settings\Administrator\桌面\再次将我更新\繁体中英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" descr="C:\Documents and Settings\Administrator\桌面\再次将我更新\繁体中英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Administrator\桌面\再次将我更新\繁体中英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e And Worship The King 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C:\Documents and Settings\Administrator\桌面\再次将我更新\繁体中英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endy</cp:lastModifiedBy>
  <dcterms:modified xsi:type="dcterms:W3CDTF">2010-06-15T06:05:4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