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29B6-017C-47BE-8ABB-5943C3AC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4E18-CB89-4FCE-B68A-ACB943A2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83E9-DCF8-49E6-8D31-7F5BC1851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CC08-8D23-41DD-9112-F6F5FAD69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134-83F0-422F-B306-F66CCB42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D91E-5071-4905-A4E2-828D1235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6625-5863-4E82-B4D8-BF451ACE2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0A7F-CB9A-4BFE-BEBD-DE3EC8F61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36B8-D5C8-4BAE-A166-4E5F4E7EA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E629-A4AF-480A-955C-986F56F8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810-5800-4A31-A22E-AE655259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0ACF-184C-4EF4-B7FD-8A488CB1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D4A78-DCD3-43FE-B994-BA7DA2FCC4D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1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C:\Documents and Settings\Administrator\桌面\再次将我更新\简体PPT\万民同来敬拜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2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2" descr="C:\Documents and Settings\Administrator\桌面\再次将我更新\简体PPT\万民同来敬拜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3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C:\Documents and Settings\Administrator\桌面\再次将我更新\简体PPT\万民同来敬拜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万民同来敬拜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4/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Documents and Settings\Administrator\桌面\再次将我更新\简体PPT\万民同来敬拜\幻灯片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06-11T15:1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