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9E851-448C-42B4-BF42-DE51DA87A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C036D-C67B-40CB-9AAB-C6161D447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28B83-9FB6-4C66-B74D-D3B010BBA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E4766-2CD3-4006-8FF9-E10229EF0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99878-3695-4F92-ACA6-618DA83EA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4D8EC-846E-4FD7-BB5B-623587F3C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FF83A-5F2B-4E82-8437-FDFDF9FB7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9073A-8E4E-4171-899E-6A64C21F1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7C950-1443-47F3-A3CE-8779DD16F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49CE1-DE1A-47A9-86CF-A23F9BC17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F2606-F49B-456A-AF8B-E711F5AD5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FCA27-FFB2-4B87-ACFC-3A6791173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8573E-B114-4189-93F1-BD78B59A009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萬民同來敬拜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5" descr="C:\Documents and Settings\Administrator\桌面\再次将我更新\繁体PPT\萬民同來敬拜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萬民同來敬拜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" descr="C:\Documents and Settings\Administrator\桌面\再次将我更新\繁体PPT\萬民同來敬拜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萬民同來敬拜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C:\Documents and Settings\Administrator\桌面\再次将我更新\繁体PPT\萬民同來敬拜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萬民同來敬拜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2" descr="C:\Documents and Settings\Administrator\桌面\再次将我更新\繁体PPT\萬民同來敬拜\幻灯片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0-06-11T15:27:20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