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DF6-E9D8-4972-A7C0-E14F58D7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D2B-C8AF-4E1E-BC1A-95B9D09A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974-29A7-408B-A3CE-49FFB70B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C69-09D0-43EC-845B-94D99FAC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D10-CD65-4ECB-867D-1E399AE7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686-DE52-4AE1-B6EF-28B88ED1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18A-87B3-4CC1-A354-07CA1CA2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881-4414-4461-95FE-4FF94FD9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F4A-5B3C-4F52-93F5-817374F9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F9A-08B8-4D61-9EEF-5A22F6D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6CD-E744-4A88-B427-830E333A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D1F-E88C-4709-ACA5-04F1AB0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3A22-960C-4A46-AA27-11517F63B3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花尽一生来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花尽一生来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花尽一生来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19Z</dcterms:modified>
  <cp:revision>4</cp:revision>
  <dc:subject/>
  <dc:title>幻灯片 1</dc:title>
</cp:coreProperties>
</file>