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7FBC-F5E8-44F1-BBA3-962D1A04F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39A2-A716-4AF2-BA8B-98B6C111C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E3E4-386F-4988-8E97-92FEBBF89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BB56-CDAE-482D-BDE6-868CD999E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EFA4-31DC-4F0B-B810-E9C3491A0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1281-3FA7-4697-B4E5-F06712B20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565D-2800-476A-87FD-A31BFB201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7E67-B7CB-4DF1-BA42-F77199A43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5EFC-BD2C-44E9-BC3E-3F977852B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ED0A-8055-46A9-A997-2A602FA7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2925-8A8A-451D-9AFC-FC4C5CBF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CB66-B814-480E-9A27-8304091F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A0E78-55FE-45B0-892A-D5FDE1203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耶稣爱我，我知影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C:\Documents and Settings\Administrator\桌面\主啊,誰人親像祢\简体\3. 耶稣爱我,我知影(台语)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耶稣爱我，我知影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C:\Documents and Settings\Administrator\桌面\主啊,誰人親像祢\简体\3. 耶稣爱我,我知影(台语)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耶稣爱我，我知影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C:\Documents and Settings\Administrator\桌面\主啊,誰人親像祢\简体\3. 耶稣爱我,我知影(台语)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耶稣爱我，我知影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C:\Documents and Settings\Administrator\桌面\主啊,誰人親像祢\简体\3. 耶稣爱我,我知影(台语)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6:46:1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