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38F-3DE6-4A42-9A10-7A379D49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98B-1E2C-44EB-883E-FE61C640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89E-CE8C-4B70-A83D-EBEB11D6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B57-F7E9-4E5B-86C3-CCA1A154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5C1-4AF5-4EB2-A68F-BBEFA80A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DFA-1C1B-48E1-A95C-87CF29C7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578-422F-429C-94EC-B1F3B5F3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6AF-049F-45AD-B11C-44C6CB0D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4F1-DECB-4637-8E39-DF86E243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29B-7301-41B0-8D45-9BA8400A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C84-4E33-4EC0-8316-C25774B8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182-62D6-40CD-B652-04D6B03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66EE-3980-4477-90A2-52784A7C14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基督是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基督是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耶稣基督是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05Z</dcterms:modified>
  <cp:revision>5</cp:revision>
  <dc:subject/>
  <dc:title>幻灯片 1</dc:title>
</cp:coreProperties>
</file>