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028-D0D7-4E72-99BE-B32F6FF0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FFE-825A-4F65-8439-D7B31F3F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4F2-8054-4310-9204-E0399197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654-1F4C-4DCA-8ED4-4EC541D8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D49-AB14-4A5A-9A9D-3788375E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016-910E-4D56-8E6A-3A233E25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DE2-E875-4FD0-8F83-78B8FCDC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1F7-24B3-4B52-86F8-28469887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BD4-DD13-445A-89C8-F70BDE20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129-A78A-4972-ADC3-D7CC258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716-E750-406A-BC2A-D6507D1E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B9D-71DF-4678-A0D5-AF668B79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6A68-E646-41E1-9344-79743E3E94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基督是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基督是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耶稣基督是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05Z</dcterms:modified>
  <cp:revision>5</cp:revision>
  <dc:subject/>
  <dc:title>幻灯片 1</dc:title>
</cp:coreProperties>
</file>