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2F2-92FF-4C8D-A9AB-EB9674E1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8CD4-B9E1-41B4-8053-51FB660E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9DEB-A35D-4890-879A-7F07DE0B4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7544-F4B1-43C3-80DE-D7EAB0DF7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A5A4-1157-476A-8DD9-6FE7F8D5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FDD6-650C-45F0-A085-86C161C4D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3F25-FA21-48BB-AD14-39A511663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4B35-6510-4DC6-99F8-6396C76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33E0-B798-4449-9AD6-4847623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93CD-BFF4-42CB-A269-9D7C6C15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1E2-18C0-4E2E-B7B9-DB7D922C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65C5-C29F-4041-9DBA-D54C3648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9ED-449D-4DA3-B0F9-7F884DC1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FE31-D904-4DC5-B5B1-FD54E0FD7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3B27-6427-4025-B6AC-79B3E985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4F25-F860-4525-A8EB-6E7B775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20B-3263-475D-99D9-75B186D9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C1DB-61E9-4D4B-96EF-6BDD0F09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DD7-5CA7-46C0-B989-4967CC4C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53758-60DD-47B1-9825-47DE239F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ocuments and Settings\Administrator\桌面\再次将我更新\繁体中英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esus, Name Above All Names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C:\Documents and Settings\Administrator\桌面\再次将我更新\繁体中英PPT\耶穌,萬名之上的名\耶穌,萬名之上的名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1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