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Jesus, I Love You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Jesus, I Love You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Jesus, I Love You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4:55Z</dcterms:modified>
  <cp:revision>31</cp:revision>
  <dc:subject/>
  <dc:title>耶穌, 我愛你 Jesus, I Love You</dc:title>
</cp:coreProperties>
</file>