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1T16:10:47Z</dcterms:modified>
  <cp:revision>33</cp:revision>
  <dc:subject/>
  <dc:title>耶穌, 我愛你</dc:title>
</cp:coreProperties>
</file>