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5A2-26A3-4EB3-B1A2-27AAF2C1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C4E-C940-4F1D-91B9-55D22D6F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ADA-37FC-48D9-A800-7D7C0112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F4F-78FF-43C0-B77C-FEB188C8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18F-B65C-489E-B126-D6C700F5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538-63FD-4E0C-8864-F39B27EE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BE9-00A9-401C-88CF-1E99E5AE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864-1140-46C0-88EA-F37874E9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B0D-3096-48F5-909E-19D889B6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E94-D77C-4AD7-8E70-C5A5A0F6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4F1-0E68-4FE6-BB54-BCBE4F76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667-A52F-4A72-959A-945E5105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0CA9-B391-41BE-8EAD-3B0869A910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，耶稣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，耶稣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25Z</dcterms:modified>
  <cp:revision>5</cp:revision>
  <dc:subject/>
  <dc:title>幻灯片 1</dc:title>
</cp:coreProperties>
</file>