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稱頌你聖名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稱頌你聖名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6:34:46Z</dcterms:modified>
  <cp:revision>43</cp:revision>
  <dc:subject/>
  <dc:title>稱頌你聖名 (台語)</dc:title>
</cp:coreProperties>
</file>