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DC5-596C-4B88-B7C2-B088E9EB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249-6BA8-4E27-B862-2E9B3CE9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70C-5CBD-4565-A487-89423D2C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064-24B1-41AD-8B79-5F0A2C29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e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7Z</dcterms:modified>
  <cp:revision>69</cp:revision>
  <dc:subject/>
  <dc:title>祢的榮耀彰顯於天 Psalm 8</dc:title>
</cp:coreProperties>
</file>