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E596-EE3E-4E89-A110-BE12540D4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1D5D-12A4-4FA9-9687-01DE1E5F1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3132-0509-4103-8EA2-A13DD8DB0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E015-1BDF-400A-9636-9AD609A6A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_psalm8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m_psalm8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m_psalm8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13Z</dcterms:modified>
  <cp:revision>71</cp:revision>
  <dc:subject/>
  <dc:title>祢的榮耀彰顯於天</dc:title>
</cp:coreProperties>
</file>