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379-3FCB-4364-AE1A-DA400B65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9AA-8EC2-479E-A96C-57BEBED4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A84-AE57-4091-B8B8-D3D67E98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470-0C63-4FB5-8148-2DF95792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649-28D1-4B28-893F-D07881D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CDA-2FB3-4F3B-8D1D-74054C63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461-EA89-4DA7-976B-4365D154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B1A-F226-4AEB-872B-7175AB09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615-1983-4A30-9266-EF74CD62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91E-C362-4808-919A-75F7DBC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67D-A92A-4309-B50C-B697DC6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73C-E8B0-474F-80EB-F7B31A1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85F6-57A1-4F68-AE40-995775CDF8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的荣耀彰显于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的荣耀彰显于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的荣耀彰显于天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11Z</dcterms:modified>
  <cp:revision>4</cp:revision>
  <dc:subject/>
  <dc:title>幻灯片 1</dc:title>
</cp:coreProperties>
</file>