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E1D-3933-44B2-A4C0-023CEC3E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D6E-F442-42F8-95D9-E16ACA2D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EA2-EFAA-479A-B29B-D78E0D8F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D9C-0755-4ED8-8379-8B906463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F34-E3D9-4793-97C0-9B168851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B82-892F-4E45-9D5C-A5B4C8DD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566-CD56-44B7-BF8F-07EAC702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B65-01E6-49C2-AAA6-599D4DEF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D89-67BF-41AB-8C6A-AE2B32B8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18E-14FA-47FA-9323-872CF77A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977-955E-47B3-AA1E-68839A8D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731-8769-476C-B533-18EC99E7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5531-6BAD-416F-9F87-03105D9E0F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你的爱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你的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你的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爱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你的爱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2:43Z</dcterms:modified>
  <cp:revision>4</cp:revision>
  <dc:subject/>
  <dc:title>幻灯片 1</dc:title>
</cp:coreProperties>
</file>