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122D-3504-4D1C-B1C6-CCB696CB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862-37F0-4E27-9167-C8700F66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5DE0-8914-42BB-92A2-D9117E52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C802-D5D2-43B3-BB3D-3CF8DDD6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1BB-A3F8-4B0B-BD82-BBA53627E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ore Beautiful Than These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21Z</dcterms:modified>
  <cp:revision>33</cp:revision>
  <dc:subject/>
  <dc:title>你比這一切更美麗 You Are More Beautiful Than These</dc:title>
</cp:coreProperties>
</file>