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4F37-C01C-4943-9B4D-E74DDF35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2720-795F-43D7-BB78-5E88FB7A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48BD-C779-41A1-B853-1E1B07815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D420-969A-4F3B-B1EC-1F96E3F4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E424-3D5A-45A3-983C-F169DC59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03Z</dcterms:modified>
  <cp:revision>35</cp:revision>
  <dc:subject/>
  <dc:title>你比這一切更美麗</dc:title>
</cp:coreProperties>
</file>