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9FA-F516-4F2B-9983-8E880720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EC8-817C-4941-BCEA-6984B49A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9AB-0696-4E3D-8C74-30FBA5CB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79E-97CE-4C61-A6D1-76782896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259-70E5-415F-A4C2-A79A89A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4B5-34C1-4B8A-9D1D-245F9837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73C-681A-4FB7-ACFC-F414086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176-238F-410B-81F5-115D48F9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27C-952D-4C1C-889A-4F97005B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D82-9D04-417A-A400-2FF778D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7D1-EA13-46EF-9C7F-6212063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323-2774-4032-BAA6-42CE2F2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9E0-97B5-4ECE-B1F6-0FCCB555A6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比这一切更美丽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比这一切更美丽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比这一切更美丽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你比这一切更美丽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5:18Z</dcterms:modified>
  <cp:revision>4</cp:revision>
  <dc:subject/>
  <dc:title>幻灯片 1</dc:title>
</cp:coreProperties>
</file>