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046-23B2-4991-B96A-530A81E1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E94-0CBA-4D16-85FB-7972FA84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9B0-B23A-4CDD-8469-9F58CEE3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524-3369-4284-9939-7E8A833E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C75-E9BD-4FE9-B973-DC394FD4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475-0CE3-4515-A576-73D8E028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AD9-8E14-4C00-97D9-2CD0E2D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4C4-0858-41D5-8238-B6BAF913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C16-0F1F-451E-81C5-39F5FD39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138-5845-430F-B488-E8E2B108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0AF-00CF-4F2B-8FBF-DB67DF0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14E-3D0C-4CBA-8A81-EBA200A8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BE4D-719A-4D7B-B3B9-3C11AAD7FD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你是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你是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3:30Z</dcterms:modified>
  <cp:revision>4</cp:revision>
  <dc:subject/>
  <dc:title>幻灯片 1</dc:title>
</cp:coreProperties>
</file>