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A91-B636-4751-BF51-4A90C052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439-FBAB-4434-AE07-3D8959EC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705-7C72-450B-9B19-614C5DC9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FA9-EB45-4736-8E31-2194988A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C00-EE8C-4321-8F8D-7D6A834C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241-5F9C-4B20-BF14-1B9FFCFD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AE3-A377-48F6-850F-1E9D4129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403-2614-4AD7-81BD-2D8C1C79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DBD-C128-4BFD-8A8E-1DF438D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FD7-DAA1-44A0-AD4A-22D24FF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A84-61AB-4951-B2A0-FDA59FA4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654-3486-4371-A6E1-C906C75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D39D-6139-499F-801C-ADF29F6AD6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是我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是我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是我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是我神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8:30Z</dcterms:modified>
  <cp:revision>4</cp:revision>
  <dc:subject/>
  <dc:title>幻灯片 1</dc:title>
</cp:coreProperties>
</file>