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0E5-4DF9-4EBE-9333-F6597BF5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794-4A2F-47DC-8C63-CB09C223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87F-92CE-4A46-9E7A-0DA35953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2D0-F8FB-4564-A7DA-C8CF3D40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69F-B260-4C96-B0AC-DBFC720A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983-095C-49E9-A6FD-2992E5F3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C9D-44C9-46C1-A728-F1266E90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257-C6A6-4B1B-BEC4-9CA85B03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68F-6628-42B4-A7D8-D6AAF867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BA68-3E67-4918-A3FD-79795721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172-5909-402E-B8BC-0C581819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D052-43D7-413E-8002-3192AC21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B5D3793-F5F1-411C-BEFF-4BC4029266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-5040" y="511200"/>
            <a:ext cx="9148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35640" y="2811240"/>
            <a:ext cx="91245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"/>
          <p:cNvSpPr/>
          <p:nvPr/>
        </p:nvSpPr>
        <p:spPr>
          <a:xfrm>
            <a:off x="-36360" y="1917000"/>
            <a:ext cx="91429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YOU'RE THE ONE FOR 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副标题 3074"/>
          <p:cNvSpPr/>
          <p:nvPr/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6516360" y="64130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762120"/>
            <a:ext cx="9143640" cy="56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我心單單屬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Lord, my heart beats for You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You? None can compare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</a:t>
            </a:r>
            <a:r>
              <a:rPr b="0" lang="en-US" sz="37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6516360" y="64130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0" y="762120"/>
            <a:ext cx="9143640" cy="57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我心單單愛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Lord, my heart beats for You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You? None can compare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</a:t>
            </a:r>
            <a:r>
              <a:rPr b="0" lang="en-US" sz="37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332640"/>
            <a:ext cx="914364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將我銘刻掌心永遠不忘記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've engraved me on Your palm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 will not forge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永遠不離棄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 will not forsake 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昔在 今在 永在的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Lord unchanging through every ag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愛我一直到永遠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'll love You eternall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6516360" y="64130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3074"/>
          <p:cNvSpPr/>
          <p:nvPr/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  <Words>271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4:43Z</dcterms:modified>
  <cp:revision>9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