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7005-AEC2-4B83-B46A-9A525F408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7D58-06BA-45FA-BCFE-A7B94B5AE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2743-BB4C-425B-BC21-52CC7B852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231A-5147-46E5-A104-76696868E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8975-31EF-43E9-92DE-7F00D71FB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9E71-357C-4290-A505-7ACF74FF0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58C4-0B55-4059-B879-FFC323540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F807-22F1-49FD-808F-E8E3402C9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8EE6-10BC-444B-BFFF-5911C8D4E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B39B-1D49-4EB0-8586-4DC92FD0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64C2-21E5-456D-AE58-94A6B6DE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33E0-3828-4600-83D2-1B585E96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90C6-21A1-4B92-A709-5FB61D7A0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祝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" descr="C:\Documents and Settings\Administrator\桌面\主啊,誰人親像祢\繁体\7. 祝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祝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" descr="C:\Documents and Settings\Administrator\桌面\主啊,誰人親像祢\繁体\7. 祝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6:40:4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