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337-AB72-449F-BACE-C1C34C82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472-9B46-4F44-AF6D-85E6AC3F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E9D-61A0-4802-B2E7-5C6CFA4F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2F6-208F-4B86-8C7B-14C59DEA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568-280E-49BA-8FEE-12B3E197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FC3-9D9F-4ED9-ABE0-1501803B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547-B8FA-4579-AA5F-109F0D37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2CA-D625-4B35-AD69-4EB0F6CE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382-2E62-453B-8D15-E223228D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651-A365-477C-A9A3-AD26F737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C43-E8A1-4CDF-971A-A8DFDF32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26B-390F-49FA-AED0-EDB7A5E2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CE69-DC0D-4788-84BF-6A8CC16DA3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盟约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盟约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盟约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盟约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盟约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22Z</dcterms:modified>
  <cp:revision>4</cp:revision>
  <dc:subject/>
  <dc:title>幻灯片 1</dc:title>
</cp:coreProperties>
</file>