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29A9-5BCF-413F-AA7E-EDAD197E2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9DA9-DE86-4402-914A-0D2AC1C9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ECB5-0FEF-45B6-A815-52F0F569F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AD50-CFAA-4B54-814D-13965F87A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D026-6169-4654-B22A-05235C6C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825D-7795-4309-9415-591B7042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31B6-42E8-4E06-BA23-FA0ECF0F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609E-218F-4FD6-AA50-86FD9D49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9ECA-5A56-4E00-8C47-96D6DAA9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F151-DB48-4306-ABD9-CA4389C0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18AD-1B3B-4EF3-A5DA-50C1FD78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AFE5-EBEF-45F7-B6BC-C15A9576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28A5-9A15-4CE3-82ED-A97527EBCD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当他轻声呼唤你的名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鼓舞\当他轻声呼唤你的名字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当他轻声呼唤你的名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鼓舞\当他轻声呼唤你的名字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当他轻声呼唤你的名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鼓舞\当他轻声呼唤你的名字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当他轻声呼唤你的名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鼓舞\当他轻声呼唤你的名字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当他轻声呼唤你的名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5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E:\music\诗歌\PPT\2\鼓舞\当他轻声呼唤你的名字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当他轻声呼唤你的名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6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E:\music\诗歌\PPT\2\鼓舞\当他轻声呼唤你的名字\幻灯片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23:3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