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當祂輕聲呼喚你的名字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48Z</dcterms:modified>
  <cp:revision>12</cp:revision>
  <dc:subject/>
  <dc:title>當祂輕聲呼喚你的名字</dc:title>
</cp:coreProperties>
</file>