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9D5-5849-486C-8FA7-FAA9AF65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8C1-BC0D-4E89-8899-B5D4CB02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E40-26F7-48D2-A614-4D45C2DB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776-1983-41AF-B3D4-80154BA1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DD9F-785C-48B7-A9D7-7137AA55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708-F421-46AC-BDD4-D35B32BD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3D6-945A-4164-9A45-D5097FC9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C99-DBBB-47F7-A74D-14A4FA77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A48-020F-4938-B903-21321605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8B2-9041-4A5F-98E1-7EE7B463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BEA-4825-4212-B2A2-44340A2F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077-70E8-4B8F-B99D-B9288BDF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A497-72C3-4777-AD85-9B5503AE96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片刻的安宁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片刻的安宁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片刻的安宁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片刻的安宁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3:56Z</dcterms:modified>
  <cp:revision>4</cp:revision>
  <dc:subject/>
  <dc:title>幻灯片 1</dc:title>
</cp:coreProperties>
</file>