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8F16-62AF-4E95-B7A7-94B44522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0FE1-0756-499A-9BE9-A16861DC0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0831-6885-4575-B7D8-C267AB5B0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0CA5-ECD1-459B-AF22-89343F612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1D2A-AE90-4192-8882-C16C1CD4F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7Z</dcterms:modified>
  <cp:revision>47</cp:revision>
  <dc:subject/>
  <dc:title>片刻的安寧</dc:title>
</cp:coreProperties>
</file>