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BB72-78F4-441A-8ABA-9502C55B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1B76-5F84-486B-99BC-32EF719F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5B4B-F477-4DAC-9DE3-5E7D87BC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1C4C-BED1-46ED-8CDF-61BE4A9B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B9FC-42FF-4481-882D-914CB7C1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3Z</dcterms:modified>
  <cp:revision>45</cp:revision>
  <dc:subject/>
  <dc:title>片刻的安寧 Moment Of Peace</dc:title>
</cp:coreProperties>
</file>