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頁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37E5E-6574-4BDD-B44B-316C59C3B7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頁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96557-2289-41F7-869B-6F2FA2CBF2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頁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39EF0-143B-4735-8A2F-1FC20BA5A0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頁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51F36-ACAB-488F-9427-901EEF74B8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頁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28C4E-BF27-42A8-95AE-93D7A8445A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61990-C63E-47F4-B140-9F3DE90A8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6AAD3-1455-4D6E-A906-631AEDF75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F94DD-6C55-471A-9AD8-0D86E8E09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57145-915A-4FC8-8103-93B3AB41F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0F7BC-8C00-4B10-BA3D-1D925D8CC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54B10-7D2D-4264-AD75-975283C15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EE48C-5D8F-40BC-A7F4-EFED05A93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1F1D5-A1A5-49CC-8C90-7873F4CA0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9EFED-E6F2-4660-BC89-047E23804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AE54C-75B7-4428-B609-F5EBD6614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10DD0-2271-4DF8-BD43-550A512CD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C8EC8-1375-4135-B602-95C16BA02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DE42B-DE43-4E07-A9F5-6FD600D7EA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父啊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我向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你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呼求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ther, Unto You I Cry 1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3" descr="C:\Documents and Settings\Administrator\桌面\再次将我更新\繁体中英PPT\父啊,我向祢呼求\父啊,我向祢呼求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父啊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我向你呼求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ther, Unto You I Cry 2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3" descr="C:\Documents and Settings\Administrator\桌面\再次将我更新\繁体中英PPT\父啊,我向祢呼求\父啊,我向祢呼求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父啊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我向你呼求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ther, Unto You I Cry 3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2" descr="C:\Documents and Settings\Administrator\桌面\再次将我更新\繁体中英PPT\父啊,我向祢呼求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父啊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我向你呼求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ther, Unto You I Cry 4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" descr="C:\Documents and Settings\Administrator\桌面\再次将我更新\繁体中英PPT\父啊,我向祢呼求\幻灯片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endy</cp:lastModifiedBy>
  <dcterms:modified xsi:type="dcterms:W3CDTF">2010-06-15T06:03:17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