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583D-8A8B-4054-857F-58A1B52CA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1B5A-D882-4AFC-BC7C-B49BA812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B6CC-8722-4C21-89FE-76FFBCB7D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2FD7-E7D5-4032-AB18-55E3AB010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F510-710C-4820-9BB4-86189549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FED8-03CB-408C-8CC6-828FB925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E5A1-59B8-40B9-AEC7-0A30B52D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BEA4-8061-47BF-982D-437A76B1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8503-2C18-4E42-8713-C57B9B2A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72B9-B4D4-4D76-BB90-823CA22A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0573-A9E7-4F5B-A9E1-064447E4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1122-BFD8-40C7-A324-B1E02F94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D955-DAB1-443A-8DEA-F273374896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父啊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向祢呼求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Documents and Settings\Administrator\桌面\再次将我更新\简体PPT\父啊,我向祢呼求\父啊,我向祢呼求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父啊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向祢呼求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简体PPT\父啊,我向祢呼求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父啊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向祢呼求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简体PPT\父啊,我向祢呼求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父啊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向祢呼求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Administrator\桌面\再次将我更新\简体PPT\父啊,我向祢呼求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11:4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