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BD17-EAFA-4770-9996-C41958CD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4199-344E-4791-A478-7DCDFDF38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5B86-40A1-4A5A-AAB7-40DDEE2CA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8F59-CAF6-49F8-86D0-BB50DA222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572-DFD2-4719-AE4E-2FCB5CED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9889-0A8E-492A-966A-A2F010E33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8681-D4E1-48B1-B427-F27A486A3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D6F-493D-4B0F-8D70-94F2FC01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A6B7-DC6A-466A-87A0-562248677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DA19-942E-4C36-BE82-35ED5F1E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1AC8-3BE1-4ABA-A499-7CBA6519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B2E2-B5F5-4A31-B66A-EEBA6DEF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B234-2248-4699-9828-2AE9D4DCCA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为我留一个位子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为我留一个位子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为我留一个位子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为我留一个位子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Administrator\桌面\再次将我更新\简体PPT\为我留一个位子\幻灯片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我留一个位子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/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C:\Documents and Settings\Administrator\桌面\再次将我更新\简体PPT\为我留一个位子\幻灯片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3:0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