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9C339-769A-481D-B125-80B98B755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560F-2BD2-4DF8-AD1C-E6A7859B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4572-B97F-480A-BAD2-A0114ECA82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4999-2040-4661-89D2-465993289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3B0-2256-4FCA-9E12-596D2BAA1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0C66B-24C6-4AFD-8263-A58E66F5F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BCEC-59B4-4D96-8771-0FF8C6647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D5F2-27C6-4074-BF4B-A4437501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04E5-9FBB-4530-9919-1ED578F7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2248-5265-402C-8409-437DD2A8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60DD-7F2C-48D7-B043-81B22744F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1BE5-F2F0-4AD5-8BA4-8EEEEFEC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3E5D-4EF0-4A9A-A13E-6FC8367D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AA08-059E-4F38-9213-8AC33C0B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D702-E8B1-4398-9D1A-7CDD3ADA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A65D-82D3-4196-8DA1-722BD625B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499-BCF2-40D8-8F8B-FF3CFDFA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624A-3F7D-4057-82AD-5500FB7B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B210-0D61-4CDA-B2F6-1C285D4A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A58A2-B1A1-422A-84B0-659ECD37EF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C:\Documents and Settings\Administrator\桌面\再次将我更新\繁体中英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istrator\桌面\再次将我更新\繁体中英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istrator\桌面\再次将我更新\繁体中英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C:\Documents and Settings\Administrator\桌面\再次将我更新\繁体中英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C:\Documents and Settings\Administrator\桌面\再次将我更新\繁体中英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ve A Place For Me 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" descr="C:\Documents and Settings\Administrator\桌面\再次将我更新\繁体中英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4:13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