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FEC-21FA-4966-9ABD-C77B6071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7AAF-7DB9-4224-96F5-7F0045467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CA9F-D48D-407A-A3A2-54116425E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84CF-918B-43E1-A454-B175F1CD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963B-F266-4D43-A760-EE346177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855F-B8BD-466C-BA03-41E54AAF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8192-2AC6-422C-A9D8-8DACDA84C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E8B9-6831-4512-A719-568E782C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B70E-8CCC-4753-98E0-3F9F3FDC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AFA7-7555-4FB6-B1AA-31BB12BD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BD6-5538-4FD8-BCFA-287480B4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A319-BF0D-425E-982F-775C8481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784D-35B3-4006-A62B-44E1C52D1D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為我留一個位子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為我留一個位子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為我留一個位子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為我留一個位子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istrator\桌面\再次将我更新\繁体PPT\為我留一個位子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為我留一個位子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istrator\桌面\再次将我更新\繁体PPT\為我留一個位子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5:4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