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AD4-8AD1-48BC-9DFC-A0D4E7E8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CDA-4D77-4D74-B55E-56A6A2DF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BF1-A442-4AB9-95E1-1D0041DC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99A-8B23-42D9-AC5A-95DB1339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4475-34E1-4E8E-80D0-BC6C2ECB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C6B-4A25-4562-86EB-6CC87306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E15-B442-436F-9EDE-424A8089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4EE-A27A-4E20-9E75-1662ECED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4391-6DBD-477A-8589-79C295A9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AB8-5222-4F90-931B-B0FCEFA6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B66-E666-43FA-9489-B33DAFB2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DF14-A3B5-4015-94B2-A756876B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C9B4F20-E036-40D6-8177-49415B6FF5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30960" y="762120"/>
            <a:ext cx="9112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漁家傲</a:t>
            </a:r>
            <a:r>
              <a:rPr b="0" lang="en-US" sz="80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新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"/>
          <p:cNvSpPr/>
          <p:nvPr/>
        </p:nvSpPr>
        <p:spPr>
          <a:xfrm>
            <a:off x="0" y="2493000"/>
            <a:ext cx="91342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曲：高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：黃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858000" y="6413040"/>
            <a:ext cx="2285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-8280" y="908640"/>
            <a:ext cx="91454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志在千禧婚筵聚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無花但望枝葉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遍抹膏油佳偶許 擇日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金銀刺綉新裝預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9144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好事耽延君遠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精明童女燈油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夜半更深呼聲與 燈火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白衣閃亮新郎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81000"/>
            <a:ext cx="1604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6858000" y="6413040"/>
            <a:ext cx="2285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126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9:22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3</vt:r8>
  </property>
</Properties>
</file>