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81A-2B01-408E-ADFE-02E8846E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AEB-F1D6-4A95-A704-99217DDA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118-D6B0-4110-8673-0BF4BF2E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92C-D775-4DB6-B460-44EB34DC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49A-C096-46C6-BE76-418BA8A1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E5A-1FE6-407E-9BA7-34C7C69C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182-F758-4303-9D46-14856E29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F66-8200-4195-BBF8-653CEF82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4B5-F1C9-49C9-9408-600E190D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27A-83BB-4D47-BDE8-39D9D4B9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F85-6E7A-4ADD-94F9-5660E283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E84-2B80-4F0E-9E6E-40F7BB11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0EADAD9-AFE5-4BE5-85D0-7716C15D9E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24120" y="69264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漁家傲</a:t>
            </a:r>
            <a:r>
              <a:rPr b="0" lang="en-US" sz="80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新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9360" y="2781360"/>
            <a:ext cx="91245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曲：高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：黃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"/>
          <p:cNvSpPr/>
          <p:nvPr/>
        </p:nvSpPr>
        <p:spPr>
          <a:xfrm>
            <a:off x="-24120" y="1989000"/>
            <a:ext cx="912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EAGER SHE AW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304920"/>
            <a:ext cx="914364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志在千禧婚筵聚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Eager, she awaits her groom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無花但望枝葉綠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Sweet anointed with perfum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遍抹膏油佳偶許 擇日娶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In her dress with golden plaits, she now wai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金銀刺綉新裝預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ike a fig tree soon to bloom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781680" y="6402240"/>
            <a:ext cx="2361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6781680" y="6402240"/>
            <a:ext cx="2361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332640"/>
            <a:ext cx="9143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好事耽延君遠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Virgins' lamps at midnight bur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精明童女燈油蓄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For his coming all now year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夜半更深呼聲與 燈火續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"Lo, he comes!" now cries a voice. All rejoic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白衣閃亮新郎愉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t long last the groom returns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81000"/>
            <a:ext cx="160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  <Words>200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59Z</dcterms:modified>
  <cp:revision>11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3</vt:r8>
  </property>
</Properties>
</file>