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52E9D-85DD-4541-B9B7-3D53B9133A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9B270-7E44-4C67-95BB-0889E8A78E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951B6-CAF2-441E-950E-1B560C6C55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16432-4350-41B4-A9A0-4399FBAD1F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A57F9-C833-4A37-B113-0D42D69BD0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永遠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4" descr="m_eternity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永遠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m_eternity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永遠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m_eternity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永遠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m_eternity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5T20:15:44Z</dcterms:created>
  <dc:creator/>
  <dc:description/>
  <dc:language>en-US</dc:language>
  <cp:lastModifiedBy>微软用户</cp:lastModifiedBy>
  <dcterms:modified xsi:type="dcterms:W3CDTF">2010-06-13T14:50:59Z</dcterms:modified>
  <cp:revision>27</cp:revision>
  <dc:subject/>
  <dc:title>永遠</dc:title>
</cp:coreProperties>
</file>