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12C-25AC-4657-9980-BE16938A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18FD-8559-41B3-8C65-6B9531D18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96E-45D2-4BC2-8D26-0A5E4173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4DC-4767-4655-9759-172180FB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B475-0C26-4F4A-AD13-BC9AB098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e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e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ernity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e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0Z</dcterms:modified>
  <cp:revision>26</cp:revision>
  <dc:subject/>
  <dc:title>永遠 Eternity</dc:title>
</cp:coreProperties>
</file>