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5DC-411D-442E-AF57-8026FE5E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275-FDF1-4D60-9FB0-2E7D36CA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CA4-4F0C-4639-BF31-D9497528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F31-8C02-4E0F-BFB0-C066D0F6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8E8-2AFE-4815-86EC-D7C40AC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9E1-A9A7-459B-B840-E54C58B0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034-6DAD-4B3A-88E0-C1F5027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F26-13FF-497E-B8AE-D3CC643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B3A-E254-4D1C-8D08-0F814909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95F-D254-4C1C-8261-68882A3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929-82A9-471E-AE82-83A85D1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19B-C018-41E2-84F5-6A47B21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A1B-D0A6-4339-A04B-BF85FD900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永远\永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永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永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永远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永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1:37Z</dcterms:modified>
  <cp:revision>5</cp:revision>
  <dc:subject/>
  <dc:title>幻灯片 1</dc:title>
</cp:coreProperties>
</file>