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FC2-4F98-4924-8A2B-A90430BF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974-4A0A-45A3-97F2-5BE987F2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5AB-3F9E-4102-9413-4ADDD4B0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814-D9DF-460A-A687-67D54AD9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F1B-0B54-48F8-B71E-28B21389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458-DF99-4F26-93AB-3D852EC1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89F-862B-49B8-B7F0-9AA37ABF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E46-A506-4083-AE46-B1E5FCB4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84B-62A8-43CC-9D74-DDBF6B0E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D07-3773-428E-9BE6-D2292CB9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FE5-41CE-44BA-A7D6-30CA370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BEA-86E3-4EA7-A082-6AB7A9E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6E6-02A7-456F-91A3-B08ED8590C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荣耀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荣耀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07Z</dcterms:modified>
  <cp:revision>5</cp:revision>
  <dc:subject/>
  <dc:title>幻灯片 1</dc:title>
</cp:coreProperties>
</file>