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8B0-A3D5-43BF-B346-E98B2BFD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C8D-ABAA-485D-92C7-9FAB0FE7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0C6-5C1C-4645-97C1-00D0A28B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9FF-5287-4D75-A6F3-A09297E5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9DF-5CDF-4B26-97A6-A6C3634B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8DC-0B44-42B7-8EC4-827CF24F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272-B0DB-4F2F-B433-FAE7C568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03B-F33D-4DE5-BBE7-418712C5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034-5345-41C5-B865-88F9739C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DB7-48E1-4C47-8D9E-B91032B8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868-5A1D-4401-B10B-F2BAB2F7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60D-BC69-4EF4-9003-62D03917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2E37618-8903-43C3-B000-A1FEF544EC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開我眼睛 看見祢就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將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  <a:ea typeface="宋体"/>
              </a:rPr>
              <a:t>我的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愛完全 讓我心一無畏懼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837000"/>
            <a:ext cx="9143640" cy="53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轉向祢 祢已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親近祢 祢就與我親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尚未求告 祢已應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使我喜樂滿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愛既完全 將一切懼怕除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264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36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