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D1E-4DEF-4C43-A290-0BA18B7A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44F-59BF-47B0-9EBF-EC91262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13B-44D1-436D-AC46-88044CB8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552-A59D-4A1D-92B2-C701D4DC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FDC-6A48-43BB-912D-C9639C5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0CC-507F-45F9-9268-538F5DF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EFA-87DB-434B-BA07-8676AFA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9DF-16D6-4182-87E0-C242045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536-A7DC-4B0B-BF40-3CB9ADC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808-91C9-4066-975A-0EE8BD9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06A-82A3-41B7-B4F9-B256FA2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0B5-4D34-4209-B28B-D54F94A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9985ED8-E652-4496-9AA7-4F79C2D883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-720" y="227700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5640" y="206136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M NOT AL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692640"/>
            <a:ext cx="914364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Help me to see that You're traveling with m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92640"/>
            <a:ext cx="914364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將愛完全 讓我心一無畏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 complete, help me cast aside my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950160" y="6382440"/>
            <a:ext cx="24343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69264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Lord, when I turn to You, You have turned to m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ngsuhChe"/>
              </a:rPr>
              <a:t>When I draw close to You, Already You've drawn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hen my pray'rs are but thoughts, You've answere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In You my joy o'erflow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765000"/>
            <a:ext cx="9143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's complete, and my heart is free of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444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17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