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54C-B897-4877-BF7B-B2A9C1EB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B9E-543C-4D5A-A9EF-7DBAAF1E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A4A2-3139-4514-B73D-5CCE5115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748-7770-4FBC-A290-EB475D87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CCE-F1CD-432C-9D90-4D20AA6E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7879-2E5D-4FB5-9FD3-F9446A89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B4D1-C262-4735-885B-0B93644B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DD6-72C3-4B93-AB43-AFC86A4D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7CC-6503-4642-968F-E8195FC5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2AF-0842-4060-8915-37B7C924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612-978F-4431-9278-B83A3217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A46-934B-48E4-BF44-739C37D2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3ACE-E3FA-433D-ACE8-6FEDEB2F3E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是谁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是谁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是谁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是谁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E:\music\诗歌\PPT\2\盟约\是谁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4:37Z</dcterms:modified>
  <cp:revision>4</cp:revision>
  <dc:subject/>
  <dc:title>幻灯片 1</dc:title>
</cp:coreProperties>
</file>