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04-14T17:02:48.816000000" idx="1">
    <p:pos x="5758" y="36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371-B8C1-40F8-A6BB-25008808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430-E7CF-473F-9F09-2AB43A3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392-4A07-43D9-9FB2-9CE031A2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83C-2CAA-49F4-A9CC-FFD39CC4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A55-4B99-4CBA-9F93-9F6FBF13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3B1-734F-4AEB-BB06-40A77A9E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E93-0446-49A3-A752-203CA9F2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93A-9548-4642-B1A6-AC41ED1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225-386B-4C17-BE8E-40F491A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7F0-3895-425C-8403-686E187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9C7-00C5-4538-BA66-D2CF0E6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B04-1618-4A42-A8F9-BDAA890C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70ACBB9-B7D5-4074-9604-8F70434A14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6584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0" y="2061360"/>
            <a:ext cx="9139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DFKai-SB"/>
                <a:ea typeface="DFKai-SB"/>
              </a:rPr>
              <a:t>SONG OF THE BRIDEGROOM (JOIN 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et us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-22320" y="332640"/>
            <a:ext cx="913428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1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 aa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rule the heave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Lord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alking with You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here You may go, I will follow Your lea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GungsuhChe"/>
              </a:rPr>
              <a:t> (2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Endlessly,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374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54Z</dcterms:modified>
  <cp:revision>17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