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8FD-DE74-4C08-A60B-1DD2DEBB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C28-FB46-4A0F-9ADD-F6407AED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4A5-81CD-4DCF-89B9-CCC0A9E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780-47DF-483A-9D6B-0829E9BC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281-CF44-4495-B3BA-4CB81384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D01-D9DC-4AD2-AF85-E1E69E32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045-BCAE-4CB9-BBB9-7EFDD832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B3B-2084-449D-A320-888356FD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482-567B-42DA-A893-147E35AC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BF8-4265-4ECE-81D7-4E4D9240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D02-2589-43A3-AC6B-B542E7B0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DEB-0616-476E-A992-CB0D719F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1DEA24F-7F56-48E0-9A7A-17D456FDC4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90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DFKai-SB"/>
                <a:ea typeface="DFKai-SB"/>
              </a:rPr>
              <a:t>新郎的呼喚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 啊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~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35640" y="548640"/>
            <a:ext cx="91850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願意 主 我願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同去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在哪裏 願我也在那裏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分離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  <Words>230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