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E061-7DBB-4CF5-9208-1982C3517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329D-921F-422A-BC55-D4A59CED8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8A0C-8548-4CD3-8BB8-FEF4BDCB4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m_toda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m_toda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40Z</dcterms:modified>
  <cp:revision>42</cp:revision>
  <dc:subject/>
  <dc:title>把握今天</dc:title>
</cp:coreProperties>
</file>