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124-83A8-43C8-8BD0-5297E473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E880-E6DA-4ECB-9DB1-ACF3D0C0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CD7-5B8F-4425-B216-DAC15474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 The Day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4Z</dcterms:modified>
  <cp:revision>41</cp:revision>
  <dc:subject/>
  <dc:title>把握今天 Seize The Day</dc:title>
</cp:coreProperties>
</file>