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為你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為你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為你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願為你去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32Z</dcterms:modified>
  <cp:revision>11</cp:revision>
  <dc:subject/>
  <dc:title>我願為你去</dc:title>
</cp:coreProperties>
</file>