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61D-A986-4BC6-94F1-E1B42E41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100-2F37-472C-8BE8-4358C627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7C2-961C-4C05-B291-59333A8C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BEF-D7AE-4D17-9BF3-484C46A3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112-7ABA-4676-82D6-474FA2E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217-B018-47CB-8A31-9F9E5C1B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634-50A4-48E0-9BF0-2E91A3FB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571-CA24-4C4E-9BFE-CE9678E0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7D0-B5CC-45A2-85C1-9876DC2D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E50-F58A-4E81-A8B5-8CA041CB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D25-81B9-460F-935A-BF0BAD6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047-EFDA-492C-AF09-0A0A779A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6DAB-5AF5-4423-8C12-FC102FC60E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最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最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最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8:18Z</dcterms:modified>
  <cp:revision>4</cp:revision>
  <dc:subject/>
  <dc:title>幻灯片 1</dc:title>
</cp:coreProperties>
</file>