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8E49-B1FC-4B0B-A3F2-38A8E1489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F159-CE5C-4AC8-BD77-DE074235A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E90E-2906-484F-BF93-2C2F54E80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386B-4026-4217-AF7C-5639AEE18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est Love Of Mine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em_greatestlov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est Love Of Mine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greatestlov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est Love Of Mine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greatestlov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32Z</dcterms:modified>
  <cp:revision>50</cp:revision>
  <dc:subject/>
  <dc:title>我的最愛 Greatest Love Of Mine</dc:title>
</cp:coreProperties>
</file>