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02E-524D-4B91-A040-93406B5E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F48-2A0F-48B0-82CB-FC28334E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7B3-B466-450A-919B-21CE1E14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B7B-A56C-47F4-97E2-05C919BA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C7A-4515-456E-B2C1-D65C5310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1B1-4554-4A2F-8171-B5C529D1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835-A02B-4187-AECE-25E2DD1D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949-C520-4A30-AA42-97FBA6DD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62C-FB77-49A2-A0D5-EB56B39C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594-C5B6-4143-88D3-2B862772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177-024E-4D15-AFB9-7608678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2EF-02F5-4FB4-AB82-D91FA83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FA47-A6F7-4D7E-AA59-CE40DB2C16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的救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的救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的救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2:03Z</dcterms:modified>
  <cp:revision>5</cp:revision>
  <dc:subject/>
  <dc:title>幻灯片 1</dc:title>
</cp:coreProperties>
</file>