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F57D-E908-4740-A9D3-8C6FA1C9C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7124-368C-4F00-8BD4-97522CC82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7239-E426-4642-86DA-1EFB614F9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51B7-A2FA-4753-9F8B-DA9B4D16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0Z</dcterms:modified>
  <cp:revision>56</cp:revision>
  <dc:subject/>
  <dc:title>我的救主</dc:title>
</cp:coreProperties>
</file>