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3F80-F124-47C0-B10A-640E6A4C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E975-CA85-45D0-8E6A-95D0D2CD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8DB-4971-4D02-8ADA-DC835953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879-0C82-4B6D-87C3-B405BDA3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e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1Z</dcterms:modified>
  <cp:revision>55</cp:revision>
  <dc:subject/>
  <dc:title>我的救主 My Savior</dc:title>
</cp:coreProperties>
</file>