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心切慕你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y Heart Longs For You V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心切慕你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y Heart Longs For You V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心切慕你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y Heart Longs For You Cho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1T16:15:06Z</dcterms:modified>
  <cp:revision>29</cp:revision>
  <dc:subject/>
  <dc:title>我的心切慕你 My Heart Longs For You</dc:title>
</cp:coreProperties>
</file>