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67FC-2DF0-4D28-A359-0BB7293C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53F0-9CB3-426E-8711-42E4B8A9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8CD2-9507-41B8-847F-4A89168C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A449-4401-485D-B0E7-AA383EC5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D3F4-9669-4579-8993-3A8AD948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D12E-0466-4343-8C3B-5250E012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002D-26DC-4379-B42D-E0628283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2ED7-474E-4F4B-8AD2-9311B5EB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3152-2D96-4D3D-B2AD-4B518E63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F7D7-4AE9-4522-8E9D-B9DD3DFB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5AF1-9F33-4CB0-BE6B-F376282E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6152-2A8F-4A18-BD48-1F09189C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C80B-7F08-4294-9D09-D3A6F40FB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我的幫助從何而來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我的幫助從何而來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17220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我的幫助從何而來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我的幫助從何而來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願神興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简体\願神興起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願神興起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E:\圣洁活祭\简体\願神興起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 Liu</cp:lastModifiedBy>
  <dcterms:modified xsi:type="dcterms:W3CDTF">2023-03-27T22:28:0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