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10B7-9D37-43D6-B1CD-3DCC21E5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C54-A439-4E99-B137-ED647A93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A89B-1B07-499D-B959-7086BFEE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E16-1A35-43D6-9E5E-D13B9DC2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E5D-7D0A-46DA-BFFC-BB230206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2457-3810-4992-81C8-EECC91BC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4C8-BAFA-459C-9140-2FD31309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A96-469C-4B2F-8B5B-1A8E981A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407-908F-4A47-BEA4-59A2D207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7BE-C235-4AB1-8375-344E2F17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48C2-1C4B-4835-B96C-A891E8BA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D71-F5DC-41A0-91F7-6FFE1438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2CB4-30B0-471C-B3F4-452373036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我的幫助從何而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我的幫助從何而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我的幫助從何而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願神興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英\願神興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:\圣洁活祭\繁英\願神興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 Liu</cp:lastModifiedBy>
  <dcterms:modified xsi:type="dcterms:W3CDTF">2023-03-27T22:30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