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AC80-6ECB-41C8-930F-8FBD31C5BC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77E5-6D8F-4A9A-9687-9F466439BDC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F9E-528F-45E0-B674-F25A933B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03F-E5FC-4BF2-A7A9-120F3074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9BF-084D-42B4-A9DC-E0905D28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054-6FDB-4811-BDF2-342F60ED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5E8-7ECC-4D13-A155-9CD3F3D1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41F-BF17-49D0-996F-146433F8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C32C-DBA1-4B05-AA07-B8FE28D5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35B9-E1B7-43A1-BBC3-201BF004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DAA4-8844-49F8-9A70-0515A28C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38EE-9F7B-43AD-A1B7-8CAD0964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4CF4-F70C-42BC-B748-B3FBA255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6F96-53CA-45BB-AB2F-CC7299EE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AF2E-638C-4501-A790-76B3169F4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天父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0" name="Picture 2" descr="E:\music\诗歌\PPT\2\鼓舞\我的天父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天父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E:\music\诗歌\PPT\2\鼓舞\我的天父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天父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E:\music\诗歌\PPT\2\鼓舞\我的天父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天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E:\music\诗歌\PPT\2\鼓舞\我的天父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4T05:03:5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