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880-1AE0-4754-9DA6-6C5D4F22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239-6633-4A41-96AB-5A73CB1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E54-C010-48DD-AFC5-65E428ED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13F-3C69-49F3-9E01-68B84F9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BD4-259D-4BD0-BC88-3677D255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296-1A1C-4488-A53E-7BBB74B7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0A1-1432-443F-8923-0187937C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947-BC90-43A0-B886-8B69DBD8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B44-F66A-4055-8FA4-699A62E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374-F95F-4638-90E1-DD8358D0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63A-4F2F-40D2-81A9-1484E509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EF9-1845-4EB9-BF52-2E09248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0A88-B434-451F-881E-E5BA8D413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我是你所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我是你所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是你所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我是你所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7:51Z</dcterms:modified>
  <cp:revision>4</cp:revision>
  <dc:subject/>
  <dc:title>幻灯片 1</dc:title>
</cp:coreProperties>
</file>