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F6B-79AA-4AB4-BBE4-0AE77233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89EE-3102-4C63-AABF-F364BA2E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148B-D521-407F-9552-D960746D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CC9A-84FE-443E-94F9-783A2486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3800-4185-428C-A550-52248907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8714-52CA-435C-B7E4-8F775753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417E-5F1D-43D3-8AC2-43E30DB9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A9D-29ED-4898-8B76-366ED0D0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2D0-9D77-4E31-9432-ED41CF68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C1B5-F381-4D71-BB1D-7449E790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F8D1-ABD4-48CD-B8F6-BD981FE4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283B-2148-467A-BE6B-E6A6DBFA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F5A6-4D29-46B6-9D22-EDC5A18E19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心属于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我心属于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心属于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我心属于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心属于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我心属于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Wendy</cp:lastModifiedBy>
  <dcterms:modified xsi:type="dcterms:W3CDTF">2010-06-15T05:25:40Z</dcterms:modified>
  <cp:revision>5</cp:revision>
  <dc:subject/>
  <dc:title>幻灯片 1</dc:title>
</cp:coreProperties>
</file>