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6CD0-E193-4F8D-A417-91E469AAE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8EDC-C978-478A-B599-9DF685D2E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9E43-3F3A-417D-9BFC-E8ECAD667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2840-2CA5-4E8B-9F8D-F8B7CAD68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D980-F206-4633-9E29-37F096F03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F14A-91DA-40A1-93F3-70E1219E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03D1-D83A-4D43-9CA1-403E9534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F331-DFEC-4556-BBF6-18126D803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F00E-F38B-45BC-ABED-BA91E1F9B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3FC8-1894-4FF2-8C1C-B6A4766D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F584-C922-4376-85DC-82226A02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A933-432F-470C-B446-91BFC072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F557-A7B3-435C-882C-5376CB63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87EC-3DB3-412F-97BC-72982CB7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9AA9-C742-4A86-BAAE-F298A129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4B94-372B-44EE-9AFB-D93D95F4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259A-2B7C-45EA-8E0C-B793F67D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38A9-B00F-4AFE-9939-11DE1A862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Father, Unto You I Cry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Documents and Settings\Administrator\桌面\再次将我更新\繁体中英PPT\我向祢呼求 (粵語)\我向祢呼求 (粵語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Father, Unto You I Cry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我向祢呼求 (粵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Father, Unto You I Cry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istrator\桌面\再次将我更新\繁体中英PPT\我向祢呼求 (粵語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Father, Unto You I Cry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Administrator\桌面\再次将我更新\繁体中英PPT\我向祢呼求 (粵語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1:1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