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35D3-3DA3-4DA4-B9D7-CE2DE139F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6E27-8265-47AD-B95D-588EA5471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847B-EC16-431A-9687-55EE40184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9A61-A694-4E2E-9AEC-2CD715230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2DFD-C159-41BE-BB78-AB63CF5AC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50F1-F29D-4D15-A6ED-ED28D7C17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8B05-375B-4B9E-823D-6976E83C4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5AC4-7116-4E21-B14C-724813928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B0E8-395A-41FB-93F9-5C4475DE8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A031-A3B2-4F5C-80A6-59FDB9A2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1868-5B7C-4A61-ADEE-C77BF73F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9318-DB59-435B-865F-5BFB2936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47124-DC6B-4FB5-B88C-8CC82FEA0A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向你呼求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粵語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  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C:\Documents and Settings\Administrator\桌面\再次将我更新\繁体PPT\我向祢呼求 (粵語)\我向祢呼求 (粵語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向你呼求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粵語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  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istrator\桌面\再次将我更新\繁体PPT\我向祢呼求 (粵語)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向你呼求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粵語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  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Documents and Settings\Administrator\桌面\再次将我更新\繁体PPT\我向祢呼求 (粵語)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向你呼求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粵語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  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C:\Documents and Settings\Administrator\桌面\再次将我更新\繁体PPT\我向祢呼求 (粵語)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30:02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