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01F-9D5A-46F2-AA9A-D84B04A0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DF6-9391-473A-A86F-D9C3E433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AFF9-0DB6-4C22-8D69-CDAC5DF7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8BA-A14D-4ED0-B0A0-E8E39074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82DC-2631-42B8-916D-3E433B0F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8Z</dcterms:modified>
  <cp:revision>62</cp:revision>
  <dc:subject/>
  <dc:title>我們來讚美主 It’s Time To Praise The Lord </dc:title>
</cp:coreProperties>
</file>