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EB5-062A-431D-88A2-3DF76ADD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5BC-0709-4755-9391-DC8A489E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83F-D4A1-4A38-8E8A-86452846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5F4-C382-4775-8D14-9A1DCCF4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C2E-95C1-4708-977B-0B044691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EC6-690E-4A0A-BC92-681AF0CE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006-D2A1-409D-B066-B435ABEA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450-B61F-479B-9619-814CADF3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204-BD40-4D2B-A510-07979CA5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E43-F677-4D05-BCC7-548A286A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D7F-D6B6-4F2B-8F44-B1F5BA44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821-432A-4A9F-9B6A-2BF040E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5C0C-3FF6-412E-BA51-C4B895DD95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们来赞美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们来赞美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们来赞美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我们来赞美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4:33Z</dcterms:modified>
  <cp:revision>4</cp:revision>
  <dc:subject/>
  <dc:title>幻灯片 1</dc:title>
</cp:coreProperties>
</file>