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ED9E0-2B3C-4FFC-AD0B-57B3F6CF9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8630C-943D-4365-9693-EDC1F1C3F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4F831-2A7C-427D-A34D-67A623B5E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48815-ABC8-417E-8FF7-06FF715E3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C8C2E-C5C9-44F7-8BE2-3F1EB1A1B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4121B-D71B-4846-885B-BDE0392AD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E8DE5-0B6D-4F34-9960-57B098DF5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36BCD-A79C-4ACE-954A-A5F5A575F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812C5-C2DB-4003-ACC2-C862FB229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A42B9-DC4A-4451-9838-E3230C567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FCE8E-90EA-4842-82E9-DDF76838D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AA3C9-F59F-4414-8770-6D66ED33A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79B4E-F38E-4681-8FAA-CDE2BF4B58D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爱你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1/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3" descr="E:\music\诗歌\PPT\2\愿你的国降临\爱你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爱你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/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1" descr="E:\music\诗歌\PPT\2\愿你的国降临\爱你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爱你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3/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1" descr="E:\music\诗歌\PPT\2\愿你的国降临\爱你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9T04:47:40Z</dcterms:created>
  <dc:creator>YYC</dc:creator>
  <dc:description/>
  <dc:language>en-US</dc:language>
  <cp:lastModifiedBy>微软用户</cp:lastModifiedBy>
  <dcterms:modified xsi:type="dcterms:W3CDTF">2010-06-13T15:20:34Z</dcterms:modified>
  <cp:revision>5</cp:revision>
  <dc:subject/>
  <dc:title>幻灯片 1</dc:title>
</cp:coreProperties>
</file>