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800-30C9-425A-B1BC-48981B30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873-C7DD-441E-B50E-C467D701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461-517A-4DB8-8CD4-24098A0B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37D-6B22-49C7-B97D-20CFA844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CBF-A39D-4ACF-A86D-DCE29BCA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9F9-7FC4-42BF-AF76-47D3715A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499-949D-41F7-8F94-57ECFD1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AD6-B27E-4F89-964C-A44EE66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27E-599B-492E-9A8E-0227B2F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D1D-C206-4EA4-B476-097A086C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026-619A-4C93-B2AF-34280E87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244-53D1-457F-992E-BF98AB5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90BAE1B-D9B4-4080-945A-0D374A3125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188640"/>
            <a:ext cx="91436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853000"/>
            <a:ext cx="9143640" cy="27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0" y="2105640"/>
            <a:ext cx="91429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e</a:t>
            </a: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DFKai-SB"/>
                <a:ea typeface="DFKai-SB"/>
              </a:rPr>
              <a:t>Thro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0" y="477000"/>
            <a:ext cx="914364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heav'nly realm there is a thron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On it sits the Ancient of Day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wesome, mighty, flowing with grac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548640"/>
            <a:ext cx="9143640" cy="55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And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 a host of angels at His thr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Carry out His will and sing Him praise,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Humbly serving through night and day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Holy,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holy, holy, hol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405000"/>
            <a:ext cx="914364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the temple veil in two has spli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the blood of Christ for all has flowe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Glory, honor, worship and prais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477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Now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my life with Christ in God is hi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ungsuhChe"/>
                <a:ea typeface="GungsuhChe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And my God in heaven I'll behold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3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Know His goodness, tell of His ways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4"/>
          <p:cNvSpPr/>
          <p:nvPr/>
        </p:nvSpPr>
        <p:spPr>
          <a:xfrm>
            <a:off x="0" y="205200"/>
            <a:ext cx="91303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nation of our God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Rise up, a priesthood of our King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Forever His mighty deeds procla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GungsuhChe"/>
              </a:rPr>
              <a:t>Declaring the the glory of His nam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6400800"/>
            <a:ext cx="914364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0" y="6380640"/>
            <a:ext cx="1404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637760" y="6373440"/>
            <a:ext cx="1505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Words>432</Words>
  <Paragraphs>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6:08Z</dcterms:modified>
  <cp:revision>15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Notes">
    <vt:r8>1</vt:r8>
  </property>
  <property fmtid="{D5CDD505-2E9C-101B-9397-08002B2CF9AE}" pid="5" name="PresentationFormat">
    <vt:lpwstr>On-screen Show (4:3)</vt:lpwstr>
  </property>
  <property fmtid="{D5CDD505-2E9C-101B-9397-08002B2CF9AE}" pid="6" name="Slides">
    <vt:r8>7</vt:r8>
  </property>
</Properties>
</file>