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1D4-8F62-4029-ACFF-985CD5C5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C00-CA6C-4436-A26A-BB6336BF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1C1-9ACA-4C73-9A4C-4BB51549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7FD-AC5F-450F-824C-20559293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9DA-E0F9-42AA-AEF7-E5620AB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8AF-F6AD-415F-99D0-E3F469D6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5DA-3A1F-49F4-9A51-4A1C7500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D71-02E4-4694-B09D-23EF1633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074-481C-4072-97A7-C3A2000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25B-2987-4FDB-9580-ACB68609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2C3-353B-46BA-A953-91147894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31F-BFA4-42A1-8AB4-FB8EDB3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C1266C7-82BB-416F-B490-1788273B0D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0" y="548640"/>
            <a:ext cx="914364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DFKai-SB"/>
                <a:ea typeface="DFKai-SB"/>
              </a:rPr>
              <a:t>寶座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277000"/>
            <a:ext cx="9143640" cy="31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林婉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CCLI#71916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6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18864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上有個榮耀的寶座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其上坐著亙古常在者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威嚴 尊貴 公義 慈愛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天使天軍侍立寶座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聽祂命令 遵行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俯伏敬拜 晝夜不停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"/>
          <p:cNvSpPr/>
          <p:nvPr/>
        </p:nvSpPr>
        <p:spPr>
          <a:xfrm>
            <a:off x="0" y="137844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哉 聖哉 聖哉 聖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18864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聖所的幔子已經裂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帶著羔羊寶血近前來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稱謝讚美 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與基督藏在神的裡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坐在高天瞻仰祂容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聆聽主心 傳祂旨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0" y="6361560"/>
            <a:ext cx="1569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615080" y="6382440"/>
            <a:ext cx="15285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寶座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4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0" y="452880"/>
            <a:ext cx="9143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君尊的祭司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興起啊 聖潔的國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萬邦宣揚祂的榮美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向萬代傳揚祂的作為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0" y="6382440"/>
            <a:ext cx="2080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381720"/>
            <a:ext cx="9143640" cy="47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38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20:14Z</dcterms:modified>
  <cp:revision>10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5</vt:r8>
  </property>
</Properties>
</file>