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51DA-1CE4-4E5B-B058-3414638F0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21CB-44A4-44CA-B851-FFBF4E2A6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075A-309B-4499-B782-3CC5B8DE7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0278-1A5C-46A1-A6FB-2A63D0440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A988-2E2A-4AD7-977A-54423D3A9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4ED2-134C-4B0B-89BF-EE9D3DD85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DFA5-4B9C-496E-B282-11393C9DD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734F-C8E5-4AE3-86C2-5D14746C1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DD4C-32A3-4C31-A4F3-49F0F780C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A989-B679-4FEC-927E-14135CAB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71BB-31D3-4BB5-892A-A31DDE07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87D3-1D59-49E1-9655-A34A35FE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53D5E-125C-44EE-A314-22B590E2BDB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主，我相信\如果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主，我相信\如果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主，我相信\如果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4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E:\music\诗歌\PPT\2\主，我相信\如果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5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E:\music\诗歌\PPT\2\主，我相信\如果\幻灯片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果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6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E:\music\诗歌\PPT\2\主，我相信\如果\幻灯片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57:2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