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31427-90F4-46ED-8E1C-A0DC3FA5C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A8E74-3E5A-4F98-8B67-B33710E6C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DD150-094D-4CCA-9E1F-945893E69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F5377-492C-4F96-89B6-1D66484D4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0FCB4-F926-4B66-9ACE-122F92CAB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98A09-B8F4-43CE-9091-2BBF24991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B4880-54C7-437B-8FF1-49970870E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C0ABB-FE9F-41C9-AEB4-FCCB3A366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AEC7E-5FBD-4D67-9171-3DF2EBC19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0892C-A40F-4932-864E-2BF1E00DE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621CC-640A-4F35-A758-AB77E5AD3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779FD-FD2B-4A6D-AE9D-AF8E898CE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F55DB-3A06-4866-825F-A49D3E8DAD2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她的新郎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1/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1" descr="E:\music\诗歌\PPT\2\盟约\她的新郎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她的新郎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/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1" descr="E:\music\诗歌\PPT\2\盟约\她的新郎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她的新郎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3/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1" descr="E:\music\诗歌\PPT\2\盟约\她的新郎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她的新郎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4/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" descr="E:\music\诗歌\PPT\2\盟约\她的新郎\幻灯片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9T06:12:06Z</dcterms:created>
  <dc:creator>YYC</dc:creator>
  <dc:description/>
  <dc:language>en-US</dc:language>
  <cp:lastModifiedBy>微软用户</cp:lastModifiedBy>
  <dcterms:modified xsi:type="dcterms:W3CDTF">2010-06-13T14:39:46Z</dcterms:modified>
  <cp:revision>4</cp:revision>
  <dc:subject/>
  <dc:title>幻灯片 1</dc:title>
</cp:coreProperties>
</file>