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743A-A6EA-44DD-A62C-4811C4F8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A718-072D-4301-8ED1-DC00B4C4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94AB-122A-4A5E-A2BD-016BAF7B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31D6-05CD-407C-B61E-B2DAD299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ACF9-6D48-424E-9A28-F80C0F02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B015-8633-4B75-85B7-2157056C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10B7-0CFF-493B-A1EE-39D901EE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DFD5-BC47-4C8D-9A3B-FCB4FBEF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3602-EE4F-42BB-86BB-C32AE7FC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B5AE-6B84-4403-A500-9B4EEE0D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DAE4-5671-4040-85CD-99B8156A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19A1-7F81-44A8-873C-91671A2C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28F98F9-0F7B-4CCC-84C9-7A5B6FEE7D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-35640" y="1161360"/>
            <a:ext cx="914436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7000" spc="-1" strike="noStrike">
                <a:solidFill>
                  <a:srgbClr val="000000"/>
                </a:solidFill>
                <a:latin typeface="DFKai-SB"/>
                <a:ea typeface="DFKai-SB"/>
              </a:rPr>
              <a:t>基督在我裏面活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720" y="2853000"/>
            <a:ext cx="914364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劉安淑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6398280" y="6414840"/>
            <a:ext cx="2745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200" spc="-1" strike="noStrike">
                <a:solidFill>
                  <a:schemeClr val="accent4"/>
                </a:solidFill>
                <a:latin typeface="楷体"/>
                <a:ea typeface="楷体"/>
              </a:rPr>
              <a:t>基督在我裏面活</a:t>
            </a: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1/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873000"/>
            <a:ext cx="914364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的氣息吹入我的身體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基督的生命在我裏面成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因著信 我已得潔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因著信 我已得稱義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0" y="6413040"/>
            <a:ext cx="1717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945360"/>
            <a:ext cx="914436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基督裏我得釋放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使我脫離罪惡捆綁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如今活著不再是我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乃是基督在我裏面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6"/>
          <p:cNvSpPr/>
          <p:nvPr/>
        </p:nvSpPr>
        <p:spPr>
          <a:xfrm>
            <a:off x="0" y="6413040"/>
            <a:ext cx="1717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"/>
          <p:cNvSpPr/>
          <p:nvPr/>
        </p:nvSpPr>
        <p:spPr>
          <a:xfrm>
            <a:off x="6398280" y="6414840"/>
            <a:ext cx="2745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200" spc="-1" strike="noStrike">
                <a:solidFill>
                  <a:schemeClr val="accent4"/>
                </a:solidFill>
                <a:latin typeface="楷体"/>
                <a:ea typeface="楷体"/>
              </a:rPr>
              <a:t>基督在我裏面活</a:t>
            </a: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2/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-720" y="945360"/>
            <a:ext cx="916776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活出祢榮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如明光照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活出祢慈愛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這個時代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6"/>
          <p:cNvSpPr/>
          <p:nvPr/>
        </p:nvSpPr>
        <p:spPr>
          <a:xfrm>
            <a:off x="0" y="6413040"/>
            <a:ext cx="1717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6398280" y="6414840"/>
            <a:ext cx="2745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200" spc="-1" strike="noStrike">
                <a:solidFill>
                  <a:schemeClr val="accent4"/>
                </a:solidFill>
                <a:latin typeface="楷体"/>
                <a:ea typeface="楷体"/>
              </a:rPr>
              <a:t>基督在我裏面活</a:t>
            </a: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3/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  <Words>184</Words>
  <Paragraphs>5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8:37Z</dcterms:modified>
  <cp:revision>10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4</vt:r8>
  </property>
</Properties>
</file>