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0D8-6AF5-4591-A5F5-5983F859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584-A8E3-4A58-BCB1-CBC0E068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067-7368-4228-8F2F-0C9C6598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376-E840-43C8-BEB1-C921E2EE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661-6FCE-481C-8980-550910CE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267-717D-403D-9D9C-B0E9209D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A63-94C9-4BF0-B37A-5DD91922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B98-D103-4E4C-87E2-9DF4DA1B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47E-3008-4E30-9263-E78AC6DD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9B4-2F56-4FF0-833C-E2794E50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569-DA9B-4F61-98B6-0905FCC0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8C9-9F3A-48A1-9506-72663B7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895CFA7-93CE-4529-A694-937BBCBAC9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837000"/>
            <a:ext cx="91436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基督在我裏面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CHRIST LIVING IN 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3157200"/>
            <a:ext cx="91436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621000"/>
            <a:ext cx="9143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的氣息吹入我的身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have breathed the breath of life inside 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基督的生命在我裏面成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Spirit dwells within, transforming my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潔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nd by faith, You've purified me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稱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es, by faith, You've justified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5486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基督裏我得釋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To my sins, I'm captive no mor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使我脫離罪惡捆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For the pow'r of Christ sets me fre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如今活著不再是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It's no longer I who liv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乃是基督在我裏面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But it is Christ, living in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477000"/>
            <a:ext cx="91436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榮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Shining out Your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如明光照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glorious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慈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Living out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這個時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bountiful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276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20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