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EB0-B17A-403F-A3AF-5A61E228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279-BC66-4924-9CAA-F0DCE97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21E-CA26-4FF4-B89D-29B9C1C1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901-403F-4748-BF5A-A03AE0AD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DBE-0A96-413F-8B4A-9C676E1E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DCD-B582-48DD-BDA6-0604C72C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E32-E360-42C7-BA14-889F9EF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6E2-E057-4FEC-8F93-84B1A471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CD3-1747-4636-9F51-F989BD0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238-0417-4D58-A93E-02561E8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405-DAC6-414D-A9B4-ED30C5D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7E7-703C-4E03-A983-3813A06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071F-24A0-446E-AEA7-BE10607E41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因此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因此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因此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3:23Z</dcterms:modified>
  <cp:revision>4</cp:revision>
  <dc:subject/>
  <dc:title>幻灯片 1</dc:title>
</cp:coreProperties>
</file>