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3A6-B072-49FC-9A7D-AC32383B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1C10-AF79-4F73-B157-55614198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CF8-821A-466E-B1C2-12CED29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C47-6AB7-4E6F-9C23-64B6556D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C9D-564E-4CBB-A633-78890DCF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AFF-DA25-4D08-8F29-9864B0B7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96E0-9422-436C-9CCE-F3C5E67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26F-B1E5-458A-BF1D-C0457987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38D-04EE-4CF8-B464-63D079F4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6B12-A3B2-465F-ABF0-BD4A3A4D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2EF2-F92F-4771-A09A-FCA73D09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6927-CE1B-463D-BBEA-92638C46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B085DB48-C9FA-4318-8346-96321D5C8E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720" y="548640"/>
            <a:ext cx="91494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0" y="2712600"/>
            <a:ext cx="914436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:</a:t>
            </a: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5640" y="2205360"/>
            <a:ext cx="912456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MY HEART CALLS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-720" y="261000"/>
            <a:ext cx="914436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you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261000"/>
            <a:ext cx="9143640" cy="55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  <a:ea typeface="DFKai-SB"/>
              </a:rPr>
              <a:t>Time and time again has my heart called to yo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hat I cease to wander all alon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Be my garden once more, be my fount, my spring enclose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o a place of rest I call you back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152280"/>
            <a:ext cx="9143640" cy="60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45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 I've beheld your handsome fac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your skin like ivory and g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You have healed my changing hear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Now it beats as one with your ow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7007400" y="6381000"/>
            <a:ext cx="21362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0" y="152280"/>
            <a:ext cx="9143640" cy="56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Has my heart been set afir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And it's forged a love to end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n the flames of your lov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I can rest my wandering heart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O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my glorious beautiful gr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-5040" y="405000"/>
            <a:ext cx="91486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longs for you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Day and night my heart calls to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-7560" y="981000"/>
            <a:ext cx="915048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舒拉密女你回來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, my bride, O Shulamite, my brid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49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DFKai-SB"/>
              </a:rPr>
              <a:t>Turn back! </a:t>
            </a: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(6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7010280" y="6382440"/>
            <a:ext cx="213336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5"/>
          <p:cNvSpPr/>
          <p:nvPr/>
        </p:nvSpPr>
        <p:spPr>
          <a:xfrm>
            <a:off x="0" y="6381000"/>
            <a:ext cx="91436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0" y="638100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  <Words>582</Words>
  <Paragraphs>1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3:42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