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210-50BD-4A6D-8511-5E2656B3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5D6-31C1-4121-8D25-09A4A03E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8BC-990E-4C31-A7C1-BAED5E16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2C4-9776-4E2D-A3A7-7683652A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067-C58D-483E-B68B-45D482E9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714-D569-41A9-BA70-62B58D61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837-708F-4006-A518-DEF06182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CAC-0F5F-4D16-B8F5-EFFA91A3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D3C6-CA4E-4DA0-969C-033E4ED7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2C0-F9A8-40F8-85BB-C62B00F5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451E-5F00-40A8-846D-F5B21180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30F1-F4FF-4F6B-A0E7-2E42A01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A406D55-9F8D-4C9F-987F-A73028AB3D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" y="2493000"/>
            <a:ext cx="9150120" cy="2662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8000" y="6453360"/>
            <a:ext cx="75960" cy="156600"/>
          </a:xfrm>
          <a:prstGeom prst="rect">
            <a:avLst/>
          </a:prstGeom>
          <a:solidFill>
            <a:srgbClr val="8c7549"/>
          </a:solidFill>
          <a:ln w="9360">
            <a:solidFill>
              <a:srgbClr val="90784a"/>
            </a:solidFill>
            <a:round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8c7549"/>
                </a:solidFill>
                <a:latin typeface="楷体"/>
                <a:ea typeface="楷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27360" y="908640"/>
            <a:ext cx="910476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1000" spc="-1" strike="noStrike">
                <a:solidFill>
                  <a:srgbClr val="000000"/>
                </a:solidFill>
                <a:latin typeface="DFKai-SB"/>
                <a:ea typeface="DFKai-SB"/>
              </a:rPr>
              <a:t>喚醒愛情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5640" y="2467080"/>
            <a:ext cx="9142920" cy="24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甜心麥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9144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13716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1371600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4"/>
          <p:cNvSpPr/>
          <p:nvPr/>
        </p:nvSpPr>
        <p:spPr>
          <a:xfrm>
            <a:off x="1560240" y="5419800"/>
            <a:ext cx="1801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5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5"/>
          <p:cNvSpPr/>
          <p:nvPr/>
        </p:nvSpPr>
        <p:spPr>
          <a:xfrm>
            <a:off x="366480" y="6550560"/>
            <a:ext cx="30477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914400"/>
            <a:ext cx="9143640" cy="40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14400"/>
            <a:ext cx="914364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千萬遍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不願再流離不再失散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歸回關鎖園中 歸回封閉的井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在你安息之所我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9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看到了你面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榮美 榮美的身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我觸摸了你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奇妙 天國的心跳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3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"/>
          <p:cNvSpPr/>
          <p:nvPr/>
        </p:nvSpPr>
        <p:spPr>
          <a:xfrm>
            <a:off x="0" y="981000"/>
            <a:ext cx="91436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燃燒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那濃烈 堅韌的愛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在愛情烈焰中 你降服了我的心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我榮耀 美麗的新郎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婦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4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4"/>
          <p:cNvSpPr/>
          <p:nvPr/>
        </p:nvSpPr>
        <p:spPr>
          <a:xfrm>
            <a:off x="0" y="9144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思念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的心不停呼喚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合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5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6977520" y="6381000"/>
            <a:ext cx="21661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喚醒愛情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6/6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0" y="981000"/>
            <a:ext cx="9143640" cy="47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新婦 新婦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舒拉密女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4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你回來 你回來 你回來</a:t>
            </a:r>
            <a:r>
              <a:rPr b="0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(2X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0" y="6334920"/>
            <a:ext cx="1731960" cy="5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新郎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副标题 3074"/>
          <p:cNvSpPr/>
          <p:nvPr/>
        </p:nvSpPr>
        <p:spPr>
          <a:xfrm>
            <a:off x="0" y="640080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  <Words>351</Words>
  <Paragraphs>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22Z</dcterms:modified>
  <cp:revision>14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7</vt:r8>
  </property>
</Properties>
</file>